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6CCB-BD50-44BB-AB73-B6783868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CC16-70DC-46DE-B780-1C207472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2988-F456-4490-A153-C282C97D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6837-72C0-40F3-BA00-5BED34D25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298E-A247-4B43-A067-0F6B0E55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AD6D-D2F0-4889-8CC0-E2252863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1EEA-94DD-4EF1-A4CF-9A5E2B55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1509-4050-4B61-B59E-35780F15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288B-9FB6-4FB7-9631-CAE38CE1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9ECB-417B-4D7A-A3BB-AF0FD0AF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D085-E0C4-420F-8FC8-CE959A54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E7EF-5EF0-4BE4-9D4A-8B68BE99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AF07-7894-4579-AE0D-0C80CAD019A3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74 Pane náš, ty bdieš nad nam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ne náš, ty bdieš nad nam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žehnávaš hojne ná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chraňuj aj naše de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buď s nimi v každý č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estou žitia veď ich stál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uj náš vrúcny prosby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eme, že si s láskou deťo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oju náruč otvár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osbu máme, aby si ná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koru a múdrosť d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še deti vychováv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česť tvoju, slávy Kráľ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08:23:50Z</dcterms:modified>
  <cp:revision>75</cp:revision>
  <dc:subject/>
  <dc:title>Je veľký náš Pán, on slávy je Kráľ Nech do všetkých strán  spev vrúcnych znie chvál.</dc:title>
</cp:coreProperties>
</file>